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49A-5145-43B1-B472-2006FFC9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C91-1C66-45EE-9E0B-AE2B9481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874-DB98-4045-ADCB-755FEDE4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5FA-2335-4E97-ABDB-4A05EA29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316-7090-41A6-8084-DEE7BF26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A33-983C-433C-BE10-A21E2AB7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0EF-C764-4E28-A99E-D7823A92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947-BA80-48F0-8E19-D8F35503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946-1567-4474-8B2F-1A658331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55B-67EC-4D38-B8B1-90AE26D2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ACF-2D8F-4FB5-996F-B41EBDF0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8A2-DA71-4713-99F1-16EBBEE8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3a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4DEB-E85E-41C7-A420-B08096065801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3a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 Day in the Life of David Beckha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3513240" cy="390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24360" y="1916280"/>
            <a:ext cx="4319640" cy="1330200"/>
          </a:xfrm>
          <a:prstGeom prst="wedgeRoundRectCallout">
            <a:avLst>
              <a:gd name="adj1" fmla="val -48675"/>
              <a:gd name="adj2" fmla="val 85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Hello pupils! Today I want to show you my fam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y Wife Vic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I saw her on a concert with the Spice Girls ... It was love at first s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Beckham Victoria - Photo - Victoria Beckham"/>
          <p:cNvPicPr/>
          <p:nvPr/>
        </p:nvPicPr>
        <p:blipFill>
          <a:blip r:embed="rId1"/>
          <a:stretch/>
        </p:blipFill>
        <p:spPr>
          <a:xfrm>
            <a:off x="5729400" y="2252520"/>
            <a:ext cx="23716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f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She saw me playing football and also fell in love. Two years later we got married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David und Victoria Beckham"/>
          <p:cNvPicPr/>
          <p:nvPr/>
        </p:nvPicPr>
        <p:blipFill>
          <a:blip r:embed="rId1"/>
          <a:stretch/>
        </p:blipFill>
        <p:spPr>
          <a:xfrm>
            <a:off x="3059280" y="3645000"/>
            <a:ext cx="3097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y First Son Brookl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11640" y="249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His full name is Brooklyn Joseph Beckh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He was born on the 4th of March in 199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Brooklyn"/>
          <p:cNvPicPr/>
          <p:nvPr/>
        </p:nvPicPr>
        <p:blipFill>
          <a:blip r:embed="rId1"/>
          <a:stretch/>
        </p:blipFill>
        <p:spPr>
          <a:xfrm>
            <a:off x="1476360" y="2852640"/>
            <a:ext cx="19051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e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Two years later my second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on Romeo was born. For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ome months we live in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pain. I‘m happy with my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wonderful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badi MT Condensed Light"/>
              </a:rPr>
              <a:t>© Nicole Oehring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194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8:58:16Z</dcterms:created>
  <dc:creator>Nagel Christian</dc:creator>
  <dc:description/>
  <dc:language>en-US</dc:language>
  <cp:lastModifiedBy> </cp:lastModifiedBy>
  <dcterms:modified xsi:type="dcterms:W3CDTF">2009-03-19T16:26:23Z</dcterms:modified>
  <cp:revision>4</cp:revision>
  <dc:subject/>
  <dc:title>A Day in the Life of David Beckham </dc:title>
</cp:coreProperties>
</file>